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38.jpeg" ContentType="image/jpeg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10.jpeg" ContentType="image/jpeg"/>
  <Override PartName="/ppt/media/image30.wmf" ContentType="image/x-wmf"/>
  <Override PartName="/ppt/media/applause.wav" ContentType="audio/x-wav"/>
  <Override PartName="/ppt/media/image28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7.wmf" ContentType="image/x-wmf"/>
  <Override PartName="/ppt/media/image1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A48-F421-48CE-8B42-693FB4F0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AC0-A9DD-44B7-9C23-33267F6E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E9E-2550-4DDF-BA48-6618D4FB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505-F3E3-4CE5-BC38-E995EFCD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4B7-A4D4-4C5F-ADAB-151BA2E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E3A-B24D-460A-96BF-9B16C5C9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A00-CCA8-4370-8A1C-A6BCBBCE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281-377E-4392-8706-1090B302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771-6744-483A-A8C7-84E12015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906-828A-4E85-AF60-3B5A7C20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4E0-2EED-4B9F-9C44-34BA9B26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615-E4C5-4758-ACD6-3785F6A3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A1F2-C537-4A33-A9C9-3FF36B2F8AB9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9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895480" y="4343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дготовил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лгополов Илья 2 «а» класс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2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3263760" y="2952720"/>
            <a:ext cx="317520" cy="31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000803_1055_5919_vnvv"/>
          <p:cNvPicPr/>
          <p:nvPr/>
        </p:nvPicPr>
        <p:blipFill>
          <a:blip r:embed="rId2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8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1" name="Picture 7" descr="000803_1077_3831_vnvv"/>
          <p:cNvPicPr/>
          <p:nvPr/>
        </p:nvPicPr>
        <p:blipFill>
          <a:blip r:embed="rId1"/>
          <a:srcRect l="0" t="0" r="0" b="2556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82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Рисунок 1" descr=""/>
          <p:cNvPicPr/>
          <p:nvPr/>
        </p:nvPicPr>
        <p:blipFill>
          <a:blip r:embed="rId3"/>
          <a:stretch/>
        </p:blipFill>
        <p:spPr>
          <a:xfrm>
            <a:off x="2438280" y="3191040"/>
            <a:ext cx="85428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6" descr="000803_1069_5279_vnvv"/>
          <p:cNvPicPr/>
          <p:nvPr/>
        </p:nvPicPr>
        <p:blipFill>
          <a:blip r:embed="rId1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0803_1055_6420_vnvv"/>
          <p:cNvPicPr/>
          <p:nvPr/>
        </p:nvPicPr>
        <p:blipFill>
          <a:blip r:embed="rId2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0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0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2405160" y="1928880"/>
            <a:ext cx="414360" cy="4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20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695160" cy="39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3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im4ok</dc:creator>
  <dc:description/>
  <dc:language>en-US</dc:language>
  <cp:lastModifiedBy>dim4ok</cp:lastModifiedBy>
  <dcterms:modified xsi:type="dcterms:W3CDTF">2011-05-13T11:06:33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